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51D66-6482-49F8-AA7F-028937C597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anadian Army Particip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Canadian Army participated directly in several major battles/campaigns, chiefly: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War Against Japan 1941-1945  (more than one group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ap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ong Kong 194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apan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eutians Campaign 1943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SA (Alaska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eppe 1942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an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talian Campaign 1943-1945 (more than one group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tal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ttle of Sicil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tal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thern Ital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taly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ro River Campaig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tal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ssin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tal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iri Valle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tal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dvance to Florenc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tal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othic L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tal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imini L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tal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rth-West Europe 1944-1945 (more than one group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ance, Netherlands, Northern Germany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ttle of Normand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anc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annel Por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an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ttle of the Scheld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elgium and Netherland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ijmegen Salie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ttle of the Rhinela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erman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inal Phas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erman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46C2F-34E3-414A-A029-529BC5322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8CF3F-4D19-4540-B0AE-D63E78B4D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68C4D-F46F-48B7-BFDC-E28E8C255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98B9C-27F1-4374-BCD6-31CAA348D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B3E79-331A-4843-ABFE-92DE1C999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A2D75-31DD-4B81-BB3F-73159A0A8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B3A80-335B-4D9E-8C17-9AD09C06A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E62BE-3FEE-4736-9782-45289242A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CF20C-D470-486B-9DD4-C57CA669E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7EAA1-4A3F-46D7-816F-85D296CB5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64D2D-7CB1-4635-9735-617C016F6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9F2C8-A8FD-4856-8ABB-25740ABD6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565FA-8B34-4DA3-A10E-FEDB4FCE50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09480" y="685800"/>
            <a:ext cx="3657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The War Against Japan 1941-1945  (more than one grou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ng Kong 1941 (Chin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eutians Campaign 1943 USA (Alask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eppe 1942 (Fr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Italian Campaign 1943-1945 (more than one grou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ttle of Sicily (Ital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thern Ita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ro River Campaign (Ital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ssino (Ital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ri Valley (Ital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vance to Florence (Italy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19720" y="380880"/>
            <a:ext cx="4190760" cy="449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2. Rimini Line (Ital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3.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North-West Europe 1944-1945 (France, Netherlands, Northern Germany) more than one 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4. Battle of Normandy (France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5. Channel Ports (Fr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6. Battle of the Scheldt (Belgium and Netherland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7. Nijmegen Salient (Netherland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8. Battle of the Rhineland (German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. Final Phase (German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ll the story of what happened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1532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cation of the battle within the country (ma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at country’s involvement in the war (how and why they were in the batt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s the country part of the allied or axis forc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did the battle take place and the consequence resulting from battl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many Canadian soldiers died and were wounded during the battl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o were the leaders of the battl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d women play any role with the battl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type of weaponry was us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are making your own “documentary” using Photosto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e Your Own Words!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lect images and text to tell the stor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ep URL’s for your bibliograph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nk of the background music you could use.  Try finding music from the war yea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 a bibliography slide at the end of the Photostor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y use your first names on the proje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pload to the For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7T20:35:47Z</dcterms:created>
  <dc:creator>NBDOE</dc:creator>
  <dc:description/>
  <dc:language>en-US</dc:language>
  <cp:lastModifiedBy>NBDOE</cp:lastModifiedBy>
  <dcterms:modified xsi:type="dcterms:W3CDTF">2008-02-18T01:25:35Z</dcterms:modified>
  <cp:revision>5</cp:revision>
  <dc:subject/>
  <dc:title>Slide 1</dc:title>
</cp:coreProperties>
</file>